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3A6-B457-4265-9AE9-EBC7C025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E7C-45A0-44CE-97A4-1C4A7971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504-BAC0-48D7-B466-46DDBF7A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1AC-A67F-479D-A312-303EE930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8E74-934F-4885-A462-E976CEB4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9770-9575-4E50-8CE6-8D29775E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D991-5810-4EA1-AC1B-C4747A37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D18D-E9AF-4F89-B99C-8F5B4059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F60F-FDEC-4893-A6B2-B008DB72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51A8-FF53-4691-898E-8BD6F18D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358B-DC8F-480A-A86B-3AB2AEA6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728-2783-4908-9056-A838B88A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889B-963E-4E76-B791-49DDADCC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8EDB-E363-464C-B68F-2B77B602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4CF1-8C6D-47CB-B954-BB1FD7D7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6E06-7160-48EE-A5EA-A06D13D6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50A4-071A-4054-A56A-2DAF7E57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6BC-8E86-4ABD-8053-024832A7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FC3-3450-4EC8-A992-8C6B2C50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0F8-D18E-4B8C-8421-05B59C41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356-0771-4BDB-815C-4F118E1F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952-2C92-4213-96F7-D262FC16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D67-8B0B-4CF4-9660-8EB04302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7D20-1B11-43EC-B7D2-2B7A96BD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587D-975B-40B2-9571-D97CA7AF8A7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C972-6B13-4E0A-AD00-C437002D763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HSP 3M - Unit 3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s. D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1120" y="6019920"/>
            <a:ext cx="87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n, C.M., &amp; Colyer, J.S. (2001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Human w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oronto: Oxford University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ART 4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and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Conflict Matt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an inevitable part of human inte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ity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itude towards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-solving 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s (personal / profession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onflict is not resolv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lead to emotional and physical / mental health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d pro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soned work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may look for employment elsew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Conflict Occu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Family Baggag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memories and experiences related to family that have accumulat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Parental Author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linking how parents corrected us in childhood and our self-esteem. May cause us to overreact to criticism in the workpl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ibling-Rivalry Issue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how you and your siblings got attention, sharing, blame, division of chores, achievemen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General Dynamic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dynamics of our primary family shape our future work relationship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xual Harass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y conduct, comment, gesture, or contact of a sexual nature that is likely to cause offence or humiliation to any employee or that might, on reasonable grounds, be perceived by that employee as placing a condition of a sexual nature on employment or any opportunity for training or promo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 (Human Resources Development Canada, 200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assment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anada Labour C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quires every employer to issue a policy on sexual harassment that follows specific guide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 of this nature is unwel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ducing conflict – 3 part formu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agnose what has gone wr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mbigu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 When bosses fail to ensure that everyone in the workplace share some understanding of the goals, roles and proced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verlo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When highly motivated people take on too much work and feel they must keep 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new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roles and expec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ce of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rofessionalizi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reak-down in teamwork), rather tha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ersonalizi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son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aging Conflict - Sty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or- hears variety of opinions, makes a dec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liger – plays down the dif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inator- acts unilaterally, overlooks ideas and needs of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er – withdraws from difficult sit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romiser – “middle-of-the-road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roles and expec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2:26:39Z</dcterms:created>
  <dc:creator>Administrator</dc:creator>
  <dc:description/>
  <dc:language>en-US</dc:language>
  <cp:lastModifiedBy>Customer</cp:lastModifiedBy>
  <dcterms:modified xsi:type="dcterms:W3CDTF">2010-12-02T16:27:59Z</dcterms:modified>
  <cp:revision>4</cp:revision>
  <dc:subject/>
  <dc:title>HSP 3M - Unit 3</dc:title>
</cp:coreProperties>
</file>